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999120" cy="9271080"/>
          </a:xfrm>
          <a:custGeom>
            <a:avLst/>
            <a:gdLst>
              <a:gd name="textAreaLeft" fmla="*/ 360 w 6999120"/>
              <a:gd name="textAreaRight" fmla="*/ 6998760 w 6999120"/>
              <a:gd name="textAreaTop" fmla="*/ 360 h 9271080"/>
              <a:gd name="textAreaBottom" fmla="*/ 9270720 h 9271080"/>
            </a:gdLst>
            <a:ahLst/>
            <a:rect l="textAreaLeft" t="textAreaTop" r="textAreaRight" b="textAreaBottom"/>
            <a:pathLst>
              <a:path w="21600" h="28611">
                <a:moveTo>
                  <a:pt x="4" y="0"/>
                </a:moveTo>
                <a:arcTo wR="4" hR="4" stAng="16200000" swAng="-5400000"/>
                <a:lnTo>
                  <a:pt x="0" y="28607"/>
                </a:lnTo>
                <a:arcTo wR="4" hR="4" stAng="10800000" swAng="-5400000"/>
                <a:lnTo>
                  <a:pt x="21596" y="2861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540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5400" y="8995320"/>
            <a:ext cx="303228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2714-E330-4750-BBBB-1BE991CBBEF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1181880" y="704520"/>
            <a:ext cx="4634280" cy="34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freshmeat.net/projects/boa-constructor/" TargetMode="External"/><Relationship Id="rId2" Type="http://schemas.openxmlformats.org/officeDocument/2006/relationships/hyperlink" Target="http://freshmeat.net/projects/directfb/" TargetMode="External"/><Relationship Id="rId3" Type="http://schemas.openxmlformats.org/officeDocument/2006/relationships/hyperlink" Target="http://freshmeat.net/projects/fltk/" TargetMode="External"/><Relationship Id="rId4" Type="http://schemas.openxmlformats.org/officeDocument/2006/relationships/hyperlink" Target="http://freshmeat.net/projects/fox/" TargetMode="External"/><Relationship Id="rId5" Type="http://schemas.openxmlformats.org/officeDocument/2006/relationships/hyperlink" Target="http://freshmeat.net/projects/gettext/" TargetMode="External"/><Relationship Id="rId6" Type="http://schemas.openxmlformats.org/officeDocument/2006/relationships/hyperlink" Target="http://freshmeat.net/projects/glade/" TargetMode="External"/><Relationship Id="rId7" Type="http://schemas.openxmlformats.org/officeDocument/2006/relationships/hyperlink" Target="http://freshmeat.net/projects/glut/" TargetMode="External"/><Relationship Id="rId8" Type="http://schemas.openxmlformats.org/officeDocument/2006/relationships/hyperlink" Target="http://freshmeat.net/projects/gtk/" TargetMode="External"/><Relationship Id="rId9" Type="http://schemas.openxmlformats.org/officeDocument/2006/relationships/hyperlink" Target="http://freshmeat.net/projects/gtkglarea/" TargetMode="External"/><Relationship Id="rId10" Type="http://schemas.openxmlformats.org/officeDocument/2006/relationships/hyperlink" Target="http://freshmeat.net/projects/gtkglext/" TargetMode="External"/><Relationship Id="rId11" Type="http://schemas.openxmlformats.org/officeDocument/2006/relationships/hyperlink" Target="http://freshmeat.net/projects/gtkglextmm/" TargetMode="External"/><Relationship Id="rId12" Type="http://schemas.openxmlformats.org/officeDocument/2006/relationships/hyperlink" Target="http://freshmeat.net/projects/gtkmm/" TargetMode="External"/><Relationship Id="rId13" Type="http://schemas.openxmlformats.org/officeDocument/2006/relationships/hyperlink" Target="http://freshmeat.net/projects/lesstif/" TargetMode="External"/><Relationship Id="rId14" Type="http://schemas.openxmlformats.org/officeDocument/2006/relationships/slide" Target="../slides/slide5.xml"/><Relationship Id="rId15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0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ux kernel driv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drom Ide Media(V4L) parport scsi video(F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rn    char ieee1394 messagepci    sgi      zo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pi     dio  input    misc   pcmcia s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      fc4  isdn     mtd    pnp    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ck    i2c  macintoshnet    s390   teleph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toothi2o  md       nubus  sbus   u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bmpeg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EG-1 Layer II/III Audi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EG-2 Layer III Audi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EG-1 video/program strea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EG-2 video/program/transport strea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3 Audi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O/VOB fil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y Do We Need Toolkits? (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freshmeat.net/articles/view/928/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TK+/gtkmm, Trolltech Qt, FOX Toolkit, FLTK, and wxWindow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D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mple DirectMedia Layer is a library that allows you low level access to a framebuffer, audio output, mouse, keyboard, and joysti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riginally designed and used for Games (Lok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UI toolkit related project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Boa Constructor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- A RAD GUI-building IDE for wxPython.</a:t>
            </a:r>
            <a:br>
              <a:rPr sz="1200"/>
            </a:br>
            <a:r>
              <a:rPr b="0" lang="en-US" sz="1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DirectFB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- A hardware-accelerated graphics library on top of the Linux framebuffer device.</a:t>
            </a:r>
            <a:br>
              <a:rPr sz="1200"/>
            </a:br>
            <a:r>
              <a:rPr b="0" lang="en-US" sz="1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FLTK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- A C++ user interface toolkit for X11, Win32, and MacOS X.</a:t>
            </a:r>
            <a:br>
              <a:rPr sz="1200"/>
            </a:br>
            <a:r>
              <a:rPr b="0" lang="en-US" sz="12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FOX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- A C++-based library for graphical user interface development.</a:t>
            </a:r>
            <a:br>
              <a:rPr sz="1200"/>
            </a:br>
            <a:r>
              <a:rPr b="0" lang="en-US" sz="12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gettex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- The GNU internationalization library.</a:t>
            </a:r>
            <a:br>
              <a:rPr sz="1200"/>
            </a:br>
            <a:r>
              <a:rPr b="0" lang="en-US" sz="12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Glad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- GUI builder for GTK+ and GNOME</a:t>
            </a:r>
            <a:br>
              <a:rPr sz="1200"/>
            </a:br>
            <a:r>
              <a:rPr b="0" lang="en-US" sz="12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GLU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- Implements a simple platform independent windowing API for OpenGL.</a:t>
            </a:r>
            <a:br>
              <a:rPr sz="1200"/>
            </a:br>
            <a:r>
              <a:rPr b="0" lang="en-US" sz="1200" spc="-1" strike="noStrike" u="sng">
                <a:solidFill>
                  <a:srgbClr val="ccccff"/>
                </a:solidFill>
                <a:uFillTx/>
                <a:latin typeface="Verdana"/>
                <a:hlinkClick r:id="rId8"/>
              </a:rPr>
              <a:t>GTK+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- A library for creating graphical user interfaces.</a:t>
            </a:r>
            <a:br>
              <a:rPr sz="1200"/>
            </a:br>
            <a:r>
              <a:rPr b="0" lang="en-US" sz="1200" spc="-1" strike="noStrike" u="sng">
                <a:solidFill>
                  <a:srgbClr val="ccccff"/>
                </a:solidFill>
                <a:uFillTx/>
                <a:latin typeface="Verdana"/>
                <a:hlinkClick r:id="rId9"/>
              </a:rPr>
              <a:t>GtkGLArea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- An OpenGL widget for GTK+.</a:t>
            </a:r>
            <a:br>
              <a:rPr sz="1200"/>
            </a:br>
            <a:r>
              <a:rPr b="0" lang="en-US" sz="1200" spc="-1" strike="noStrike" u="sng">
                <a:solidFill>
                  <a:srgbClr val="ccccff"/>
                </a:solidFill>
                <a:uFillTx/>
                <a:latin typeface="Verdana"/>
                <a:hlinkClick r:id="rId10"/>
              </a:rPr>
              <a:t>GtkGLEx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- An OpenGL extension to GTK.</a:t>
            </a:r>
            <a:br>
              <a:rPr sz="1200"/>
            </a:br>
            <a:r>
              <a:rPr b="0" lang="en-US" sz="1200" spc="-1" strike="noStrike" u="sng">
                <a:solidFill>
                  <a:srgbClr val="ccccff"/>
                </a:solidFill>
                <a:uFillTx/>
                <a:latin typeface="Verdana"/>
                <a:hlinkClick r:id="rId11"/>
              </a:rPr>
              <a:t>gtkglextmm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- A C++ wrapper for GtkGLExt.</a:t>
            </a:r>
            <a:br>
              <a:rPr sz="1200"/>
            </a:br>
            <a:r>
              <a:rPr b="0" lang="en-US" sz="12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gtkmm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- A C++ interface for the popular GUI library GTK+.</a:t>
            </a:r>
            <a:br>
              <a:rPr sz="1200"/>
            </a:br>
            <a:r>
              <a:rPr b="0" lang="en-US" sz="1200" spc="-1" strike="noStrike" u="sng">
                <a:solidFill>
                  <a:srgbClr val="ccccff"/>
                </a:solidFill>
                <a:uFillTx/>
                <a:latin typeface="Verdana"/>
                <a:hlinkClick r:id="rId13"/>
              </a:rPr>
              <a:t>Lesstif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- LGPL'd re-implementation of Moti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Qt - A GUI software toolki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cl/Tk - A portable scripting environment for Unix, Windows, and Macintos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Gimp - The GNU Image Manipulation Program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ICompiler - A User Interface compiler combining QtDesigner and Java Swing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xPython - A Python extension module for wxWindow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xWindows/GTK - GTK port of the cross-platform wxWindows C++application framework class libra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Forms - A GUI toolkit based on Xlib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X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http://bytesex.org/v4l/spec/c10118.html#XVIDE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v has a major advantage over the V4L2 video overlay interface because the Xv driver embedded into the X server can easily determine the overlay target, can program the RAMDAC for overlay, scaling or color-keying, or the clipping functions of the video capture hardware, always in synchronization with drawing operations or windows moving or changing stacking order. To take advantage of these abilities a special Xv driver exists in XFree86, just programming any overlay capable Video4Linux device it finds. To enable it /etc/XF86Config must contain these lin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tion "Module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ad "v4l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ince V4L2 permits multiple opens it is possible (if supported by the V4L2 driver) to capture video while an X client requested video overl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ree86 extended Xv to support hardware YUV to RGB conversion and scaling for faster video playback, this can be used to improve displaying captured im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0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ices to be made when a CE vendor specific MultiMedia/Graphics device is int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ndardize at kernel boundary (via ioctl) or at a higher level in user-sp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er level candidates: ALSA for sound, UHAPI for AV streaming, DirectFB for video/graph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63280"/>
            <a:ext cx="77709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63280"/>
            <a:ext cx="3791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760" y="4463280"/>
            <a:ext cx="3791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63280"/>
            <a:ext cx="2502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440" y="4463280"/>
            <a:ext cx="2502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720" y="4463280"/>
            <a:ext cx="2502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0960" cy="42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63280"/>
            <a:ext cx="3791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760" y="4463280"/>
            <a:ext cx="3791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63280"/>
            <a:ext cx="77709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62485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6 January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133720" y="624852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 Linux Forum Technical Con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315200" y="6248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50A8-3130-4B1E-9E8C-2725BE3DE7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4978440" cy="73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itstream Vera Sans"/>
              </a:rPr>
              <a:t>Audio Video Graphics</a:t>
            </a:r>
            <a:br>
              <a:rPr sz="4400"/>
            </a:br>
            <a:r>
              <a:rPr b="1" lang="en-US" sz="40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Working Group Session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34290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ans"/>
              </a:rPr>
              <a:t>San Jos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Bitstream Vera Sans"/>
              </a:rPr>
              <a:t>me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Pieter van de Meu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WG ch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AVG WG – todays objective: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09480" y="1676520"/>
          <a:ext cx="8229600" cy="4330440"/>
        </p:xfrm>
        <a:graphic>
          <a:graphicData uri="http://schemas.openxmlformats.org/drawingml/2006/table">
            <a:tbl>
              <a:tblPr/>
              <a:tblGrid>
                <a:gridCol w="1676520"/>
                <a:gridCol w="1600200"/>
                <a:gridCol w="1600200"/>
                <a:gridCol w="1754280"/>
                <a:gridCol w="15984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Audi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Vide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2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3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Renesas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itstream Vera Sans"/>
                          <a:ea typeface="msgothic"/>
                        </a:rPr>
                        <a:t>Mitsubishi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 Conex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DirectF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Philips (2) Sams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U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AP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Phili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Multi-F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…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OpenG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…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…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5" name=""/>
          <p:cNvSpPr txBox="1"/>
          <p:nvPr/>
        </p:nvSpPr>
        <p:spPr>
          <a:xfrm>
            <a:off x="762120" y="1371600"/>
            <a:ext cx="838188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latin typeface="Arial Black"/>
              </a:rPr>
              <a:t>To be filled in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>
                  <a:alpha val="50000"/>
                </a:srgbClr>
              </a:solidFill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Recall: 25</a:t>
            </a:r>
            <a:r>
              <a:rPr b="0" lang="en-US" sz="4400" spc="-1" strike="noStrike" baseline="30000">
                <a:solidFill>
                  <a:srgbClr val="000000"/>
                </a:solidFill>
                <a:latin typeface="Bitstream Vera Sans"/>
                <a:ea typeface="ＭＳ Ｐゴシック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/26</a:t>
            </a:r>
            <a:r>
              <a:rPr b="0" lang="en-US" sz="4400" spc="-1" strike="noStrike" baseline="30000">
                <a:solidFill>
                  <a:srgbClr val="000000"/>
                </a:solidFill>
                <a:latin typeface="Bitstream Vera Sans"/>
                <a:ea typeface="ＭＳ Ｐゴシック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 Presentations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90360" y="1600200"/>
            <a:ext cx="7848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DirectFB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- Dennis Oliver Kropp; Converg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http://www.directfb.or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OpenGL ES, OpenVG and OpenMAX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- Ed Plowman; 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http://www.khronos.or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Graphics APIS for Linux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- Matsubara, Hagiwara, Hisao Munakata; Rene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Creating GTK+ based UI's for embedded devices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- Markku Ursin, Mov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http://www.gtk.or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Linux DVB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- Michael Hunold; Converg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http://www.linuxtv.or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UHAPI (AV streaming) tutorial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- John Vugts; Philips/Sams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http://www.uhapi.or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Recall: Jan. 25</a:t>
            </a:r>
            <a:r>
              <a:rPr b="0" lang="en-US" sz="4400" spc="-1" strike="noStrike" baseline="30000">
                <a:solidFill>
                  <a:srgbClr val="000000"/>
                </a:solidFill>
                <a:latin typeface="Bitstream Vera Sans"/>
                <a:ea typeface="ＭＳ Ｐゴシック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 Demos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90720" y="1514520"/>
            <a:ext cx="769608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FB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(Multi-framebuff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hilips: PNX8550 running Linux; dual framebuffer and AV acce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DirectF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Conexant: DVD processor running CELF Linux with DirectF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Mitsubishi: ARIB plane model emulated on DirectFB window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Mitsubishi: MPEG4 Player (via GTK+) running on Renesas SH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Renesas: GTK+ and GUI without X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UHAPI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(AV streaming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hilips open source demo on 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DT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oshiba America/Europe: DTV reference solution and Home Gatew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3D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graph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Renesas: demo by SI-Electronics on SH-4 and Power V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ioneer: OpenG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inux APIs (2004/6 status) &amp; CELF V1.0 focu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4419720"/>
            <a:ext cx="6248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67440" y="396252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dev/fb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396252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dev/vid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5360" y="4038480"/>
            <a:ext cx="39348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1066680"/>
            <a:ext cx="624852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3809880"/>
            <a:ext cx="62485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48800" y="4572000"/>
            <a:ext cx="82080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esaf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2438280"/>
            <a:ext cx="175248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2666880"/>
            <a:ext cx="6094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Tiny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3352680"/>
            <a:ext cx="609840" cy="2764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18288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190512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N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TK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11430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5360" y="1749960"/>
            <a:ext cx="3934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SER 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5181480"/>
            <a:ext cx="62485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5360" y="5332680"/>
            <a:ext cx="3934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181480" y="3200400"/>
            <a:ext cx="1371600" cy="457200"/>
            <a:chOff x="5181480" y="3200400"/>
            <a:chExt cx="1371600" cy="457200"/>
          </a:xfrm>
        </p:grpSpPr>
        <p:sp>
          <p:nvSpPr>
            <p:cNvPr id="78" name=""/>
            <p:cNvSpPr/>
            <p:nvPr/>
          </p:nvSpPr>
          <p:spPr>
            <a:xfrm>
              <a:off x="5181480" y="3200400"/>
              <a:ext cx="13716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58160" y="327636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DirectF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410080" y="1828800"/>
            <a:ext cx="990720" cy="1371600"/>
            <a:chOff x="5410080" y="1828800"/>
            <a:chExt cx="990720" cy="1371600"/>
          </a:xfrm>
        </p:grpSpPr>
        <p:sp>
          <p:nvSpPr>
            <p:cNvPr id="81" name=""/>
            <p:cNvSpPr/>
            <p:nvPr/>
          </p:nvSpPr>
          <p:spPr>
            <a:xfrm>
              <a:off x="5410080" y="1828800"/>
              <a:ext cx="990720" cy="13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10080" y="1904760"/>
              <a:ext cx="99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GNO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GTK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7853760" y="2971800"/>
            <a:ext cx="1034280" cy="115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ue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bmpeg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b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bp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Zlib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6553080" y="2743200"/>
            <a:ext cx="1067040" cy="914400"/>
            <a:chOff x="6553080" y="2743200"/>
            <a:chExt cx="1067040" cy="914400"/>
          </a:xfrm>
        </p:grpSpPr>
        <p:sp>
          <p:nvSpPr>
            <p:cNvPr id="85" name=""/>
            <p:cNvSpPr/>
            <p:nvPr/>
          </p:nvSpPr>
          <p:spPr>
            <a:xfrm>
              <a:off x="6553080" y="3200400"/>
              <a:ext cx="106704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6781680" y="2743200"/>
              <a:ext cx="838440" cy="840240"/>
              <a:chOff x="6781680" y="2743200"/>
              <a:chExt cx="838440" cy="840240"/>
            </a:xfrm>
          </p:grpSpPr>
          <p:sp>
            <p:nvSpPr>
              <p:cNvPr id="87" name=""/>
              <p:cNvSpPr/>
              <p:nvPr/>
            </p:nvSpPr>
            <p:spPr>
              <a:xfrm>
                <a:off x="6782400" y="3276360"/>
                <a:ext cx="71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Nano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81680" y="2743200"/>
                <a:ext cx="83844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858720" y="2819160"/>
                <a:ext cx="71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NXli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" name=""/>
          <p:cNvGrpSpPr/>
          <p:nvPr/>
        </p:nvGrpSpPr>
        <p:grpSpPr>
          <a:xfrm>
            <a:off x="1371600" y="2437920"/>
            <a:ext cx="1523880" cy="2441160"/>
            <a:chOff x="1371600" y="2437920"/>
            <a:chExt cx="1523880" cy="2441160"/>
          </a:xfrm>
        </p:grpSpPr>
        <p:sp>
          <p:nvSpPr>
            <p:cNvPr id="91" name=""/>
            <p:cNvSpPr/>
            <p:nvPr/>
          </p:nvSpPr>
          <p:spPr>
            <a:xfrm>
              <a:off x="1447920" y="396216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dev/au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57400" y="3047760"/>
              <a:ext cx="76212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10760" y="320040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28800" y="266688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LS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05960" y="4572000"/>
              <a:ext cx="6073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C9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30000" y="3124080"/>
              <a:ext cx="39420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9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371600" y="2437920"/>
              <a:ext cx="1219320" cy="609480"/>
              <a:chOff x="1371600" y="2437920"/>
              <a:chExt cx="1219320" cy="609480"/>
            </a:xfrm>
          </p:grpSpPr>
          <p:sp>
            <p:nvSpPr>
              <p:cNvPr id="98" name=""/>
              <p:cNvSpPr/>
              <p:nvPr/>
            </p:nvSpPr>
            <p:spPr>
              <a:xfrm>
                <a:off x="1371600" y="243828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2590920" y="243792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" name=""/>
          <p:cNvSpPr/>
          <p:nvPr/>
        </p:nvSpPr>
        <p:spPr>
          <a:xfrm>
            <a:off x="3124800" y="44956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4L[2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3886200"/>
            <a:ext cx="1219320" cy="990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96680" y="4648320"/>
            <a:ext cx="50076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2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41911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/dev/i2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16360" y="3373560"/>
            <a:ext cx="942840" cy="2462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F86_FBDE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04960" y="533412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ost proces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501720" y="3962520"/>
            <a:ext cx="4116240" cy="1678320"/>
            <a:chOff x="3501720" y="3962520"/>
            <a:chExt cx="4116240" cy="1678320"/>
          </a:xfrm>
        </p:grpSpPr>
        <p:sp>
          <p:nvSpPr>
            <p:cNvPr id="107" name=""/>
            <p:cNvSpPr/>
            <p:nvPr/>
          </p:nvSpPr>
          <p:spPr>
            <a:xfrm>
              <a:off x="5486760" y="39625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dev/p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77120" y="396252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dev/tty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48280" y="4572000"/>
              <a:ext cx="13543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USB driv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01720" y="5333760"/>
              <a:ext cx="38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Host processor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/ Board peripher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895480" y="5638680"/>
            <a:ext cx="2514600" cy="662400"/>
            <a:chOff x="2895480" y="5638680"/>
            <a:chExt cx="2514600" cy="662400"/>
          </a:xfrm>
        </p:grpSpPr>
        <p:sp>
          <p:nvSpPr>
            <p:cNvPr id="112" name=""/>
            <p:cNvSpPr/>
            <p:nvPr/>
          </p:nvSpPr>
          <p:spPr>
            <a:xfrm>
              <a:off x="2895480" y="599400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urier New"/>
                </a:rPr>
                <a:t>Video In    Video 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00400" y="5638680"/>
              <a:ext cx="485640" cy="356040"/>
            </a:xfrm>
            <a:prstGeom prst="upArrow">
              <a:avLst>
                <a:gd name="adj1" fmla="val 40519"/>
                <a:gd name="adj2" fmla="val 595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72000" y="5638680"/>
              <a:ext cx="485640" cy="346680"/>
            </a:xfrm>
            <a:prstGeom prst="downArrow">
              <a:avLst>
                <a:gd name="adj1" fmla="val 54250"/>
                <a:gd name="adj2" fmla="val 4587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495680" y="1829880"/>
            <a:ext cx="4493880" cy="4483800"/>
            <a:chOff x="4495680" y="1829880"/>
            <a:chExt cx="4493880" cy="4483800"/>
          </a:xfrm>
        </p:grpSpPr>
        <p:grpSp>
          <p:nvGrpSpPr>
            <p:cNvPr id="116" name=""/>
            <p:cNvGrpSpPr/>
            <p:nvPr/>
          </p:nvGrpSpPr>
          <p:grpSpPr>
            <a:xfrm>
              <a:off x="4495680" y="1829880"/>
              <a:ext cx="913680" cy="743400"/>
              <a:chOff x="4495680" y="1829880"/>
              <a:chExt cx="913680" cy="74340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4495680" y="1829880"/>
                <a:ext cx="913680" cy="743400"/>
                <a:chOff x="4495680" y="1829880"/>
                <a:chExt cx="913680" cy="7434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4495680" y="1830240"/>
                  <a:ext cx="913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flipV="1">
                  <a:off x="5409360" y="1829880"/>
                  <a:ext cx="0" cy="74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4723920" y="1978560"/>
                <a:ext cx="609120" cy="30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cc"/>
                    </a:solidFill>
                    <a:latin typeface="Courier New"/>
                  </a:rPr>
                  <a:t>SD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5866560" y="6067440"/>
              <a:ext cx="312300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Courier New"/>
                </a:rPr>
                <a:t>Multi-platform:</a:t>
              </a:r>
              <a:r>
                <a:rPr b="0" lang="en-US" sz="1000" spc="-1" strike="noStrike">
                  <a:solidFill>
                    <a:srgbClr val="3333cc"/>
                  </a:solidFill>
                  <a:latin typeface="Courier New"/>
                </a:rPr>
                <a:t> Unix, Windows, Mac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209680" y="1523880"/>
            <a:ext cx="1828800" cy="914400"/>
            <a:chOff x="2209680" y="1523880"/>
            <a:chExt cx="1828800" cy="914400"/>
          </a:xfrm>
        </p:grpSpPr>
        <p:sp>
          <p:nvSpPr>
            <p:cNvPr id="123" name=""/>
            <p:cNvSpPr/>
            <p:nvPr/>
          </p:nvSpPr>
          <p:spPr>
            <a:xfrm>
              <a:off x="2514600" y="152388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GStream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09680" y="15238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09680" y="15238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38480" y="1523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4038480" y="1523880"/>
            <a:ext cx="35816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wxWind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2438280"/>
            <a:ext cx="6094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FLT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845840" y="2209680"/>
            <a:ext cx="129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11 has its ow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phics driver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t can also use F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158840" y="641520"/>
            <a:ext cx="6697800" cy="3808080"/>
            <a:chOff x="1158840" y="641520"/>
            <a:chExt cx="6697800" cy="3808080"/>
          </a:xfrm>
        </p:grpSpPr>
        <p:sp>
          <p:nvSpPr>
            <p:cNvPr id="131" name=""/>
            <p:cNvSpPr/>
            <p:nvPr/>
          </p:nvSpPr>
          <p:spPr>
            <a:xfrm>
              <a:off x="1158840" y="2573280"/>
              <a:ext cx="1736640" cy="627120"/>
            </a:xfrm>
            <a:prstGeom prst="ellipse">
              <a:avLst/>
            </a:prstGeom>
            <a:noFill/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98960" y="3124080"/>
              <a:ext cx="1736640" cy="627120"/>
            </a:xfrm>
            <a:prstGeom prst="ellipse">
              <a:avLst/>
            </a:prstGeom>
            <a:noFill/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21360" y="2116080"/>
              <a:ext cx="1736640" cy="627120"/>
            </a:xfrm>
            <a:prstGeom prst="ellipse">
              <a:avLst/>
            </a:prstGeom>
            <a:noFill/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86200" y="3822840"/>
              <a:ext cx="1736640" cy="626760"/>
            </a:xfrm>
            <a:prstGeom prst="ellipse">
              <a:avLst/>
            </a:prstGeom>
            <a:noFill/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02080" y="641520"/>
              <a:ext cx="2554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Bitstream Vera Sans"/>
                  <a:ea typeface="msgothic"/>
                </a:rPr>
                <a:t>CELF V1.0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2209680" y="1523880"/>
            <a:ext cx="1828800" cy="2133360"/>
            <a:chOff x="2209680" y="1523880"/>
            <a:chExt cx="1828800" cy="2133360"/>
          </a:xfrm>
        </p:grpSpPr>
        <p:sp>
          <p:nvSpPr>
            <p:cNvPr id="137" name=""/>
            <p:cNvSpPr/>
            <p:nvPr/>
          </p:nvSpPr>
          <p:spPr>
            <a:xfrm>
              <a:off x="4038480" y="152388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14600" y="152388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GStream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09680" y="15238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09680" y="152388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inux API focus with Media/GFX Hardwar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4419720"/>
            <a:ext cx="6248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5360" y="4038480"/>
            <a:ext cx="39348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1066680"/>
            <a:ext cx="624852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809880"/>
            <a:ext cx="62485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8800" y="4572000"/>
            <a:ext cx="82080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esaf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6200" y="11430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5360" y="1749960"/>
            <a:ext cx="3934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SER 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01720" y="5334120"/>
            <a:ext cx="380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ost processor / Board peripher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5360" y="5332680"/>
            <a:ext cx="3934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05960" y="4572000"/>
            <a:ext cx="60732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C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48280" y="4572000"/>
            <a:ext cx="135432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SB dr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44400" y="4572000"/>
            <a:ext cx="50076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2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5181480"/>
            <a:ext cx="62485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371600" y="5181480"/>
            <a:ext cx="2057400" cy="609480"/>
            <a:chOff x="1371600" y="5181480"/>
            <a:chExt cx="2057400" cy="609480"/>
          </a:xfrm>
        </p:grpSpPr>
        <p:sp>
          <p:nvSpPr>
            <p:cNvPr id="156" name=""/>
            <p:cNvSpPr/>
            <p:nvPr/>
          </p:nvSpPr>
          <p:spPr>
            <a:xfrm>
              <a:off x="1371600" y="5181480"/>
              <a:ext cx="20574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81440" y="5333760"/>
              <a:ext cx="1140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Media/GF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371600" y="3809880"/>
            <a:ext cx="6248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371600" y="2743200"/>
            <a:ext cx="1447920" cy="1526400"/>
            <a:chOff x="1371600" y="2743200"/>
            <a:chExt cx="1447920" cy="1526400"/>
          </a:xfrm>
        </p:grpSpPr>
        <p:sp>
          <p:nvSpPr>
            <p:cNvPr id="160" name=""/>
            <p:cNvSpPr/>
            <p:nvPr/>
          </p:nvSpPr>
          <p:spPr>
            <a:xfrm>
              <a:off x="1530000" y="3124080"/>
              <a:ext cx="39420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9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71600" y="2743200"/>
              <a:ext cx="1447920" cy="914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01280" y="2971800"/>
              <a:ext cx="607320" cy="307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LS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71600" y="27432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71600" y="3962520"/>
              <a:ext cx="124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dev/au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3358800" y="4572000"/>
            <a:ext cx="50076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4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952880" y="1676520"/>
            <a:ext cx="2667240" cy="2653560"/>
            <a:chOff x="4952880" y="1676520"/>
            <a:chExt cx="2667240" cy="2653560"/>
          </a:xfrm>
        </p:grpSpPr>
        <p:sp>
          <p:nvSpPr>
            <p:cNvPr id="167" name=""/>
            <p:cNvSpPr/>
            <p:nvPr/>
          </p:nvSpPr>
          <p:spPr>
            <a:xfrm>
              <a:off x="5181480" y="3962520"/>
              <a:ext cx="135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dev/fb[2D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67280" y="1676520"/>
              <a:ext cx="990720" cy="10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67280" y="1828800"/>
              <a:ext cx="990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GNO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GTK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553440" y="3809880"/>
              <a:ext cx="1034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dev/p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dev/t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181480" y="3200400"/>
              <a:ext cx="1371600" cy="457200"/>
              <a:chOff x="5181480" y="3200400"/>
              <a:chExt cx="1371600" cy="457200"/>
            </a:xfrm>
          </p:grpSpPr>
          <p:sp>
            <p:nvSpPr>
              <p:cNvPr id="172" name=""/>
              <p:cNvSpPr/>
              <p:nvPr/>
            </p:nvSpPr>
            <p:spPr>
              <a:xfrm>
                <a:off x="5181480" y="3200400"/>
                <a:ext cx="13716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258160" y="3276360"/>
                <a:ext cx="103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DirectF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4952880" y="2743200"/>
              <a:ext cx="2667240" cy="914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67640" y="2971800"/>
              <a:ext cx="1034280" cy="3070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DirectF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52880" y="2743200"/>
              <a:ext cx="2667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67280" y="220968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67280" y="167652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513160" y="1928880"/>
            <a:ext cx="2820960" cy="2340720"/>
            <a:chOff x="2513160" y="1928880"/>
            <a:chExt cx="2820960" cy="2340720"/>
          </a:xfrm>
        </p:grpSpPr>
        <p:sp>
          <p:nvSpPr>
            <p:cNvPr id="180" name=""/>
            <p:cNvSpPr/>
            <p:nvPr/>
          </p:nvSpPr>
          <p:spPr>
            <a:xfrm>
              <a:off x="2667240" y="396252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dev/at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13160" y="3124080"/>
              <a:ext cx="2820960" cy="533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52560" y="3138480"/>
              <a:ext cx="2311560" cy="5202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UHAPI implemen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9520" y="1928880"/>
              <a:ext cx="2133360" cy="11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24080" y="2057400"/>
              <a:ext cx="152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V streaming appl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13160" y="3079800"/>
              <a:ext cx="2819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3520" y="2851200"/>
              <a:ext cx="716040" cy="243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UHAP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09880" y="3403440"/>
              <a:ext cx="114300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Demo:SDL/V4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19520" y="3403440"/>
              <a:ext cx="99036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Nati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62520" y="3962520"/>
              <a:ext cx="124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dev/vide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AVG WG project-list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72960" y="1752480"/>
          <a:ext cx="8229600" cy="3818160"/>
        </p:xfrm>
        <a:graphic>
          <a:graphicData uri="http://schemas.openxmlformats.org/drawingml/2006/table">
            <a:tbl>
              <a:tblPr/>
              <a:tblGrid>
                <a:gridCol w="2256120"/>
                <a:gridCol w="1085760"/>
                <a:gridCol w="1679400"/>
                <a:gridCol w="1609920"/>
                <a:gridCol w="1598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Aud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Video A/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2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3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Renesas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itstream Vera Sans"/>
                          <a:ea typeface="msgothic"/>
                        </a:rPr>
                        <a:t>Mitsubishi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 Conexant, Phili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DirectF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Philips (2), Sams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2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 phase: Renesas, Mit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U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API (A+D T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Philips (interim sol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Multi-F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Renesas, Mits., IMG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OpenGL [ES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Renesas, Mits., Toshiba Europe, L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DTV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DVB - A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ALSA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ETRI, Renes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GTK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Output: task list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86924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nuxDVB  - add documentation, extensions to support analog, higher level API, Q1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Make OS implementation (incl. DVB V4?) of UHAPI PC available, Phil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FB: Acceleration, consider API extensions,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G/Khronos group: OpenGL ES relation to DirectF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HAPI team: detailed look at DVB &amp; DirectF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.b.d. Set timeline for studies &amp; eval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ieter van der Meulen</cp:lastModifiedBy>
  <dcterms:modified xsi:type="dcterms:W3CDTF">2005-02-01T00:55:29Z</dcterms:modified>
  <cp:revision>39</cp:revision>
  <dc:subject/>
  <dc:title>PowerPoint Presentation</dc:title>
</cp:coreProperties>
</file>